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68BB9C-EFF1-42EA-A414-FD2016B28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843FD9-CA1B-4773-BF77-3935BEC8A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65B1B5-6BF6-4CB5-90B8-0EF4996B8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E0284B-0CED-41D0-A17D-1FB96607E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1FF43-4E69-4B12-802D-A480D23ED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23D47-39C0-4F09-B81B-68249746C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AF028-FB9C-49A3-8642-A496713A0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ED2AD-5783-40E4-86DF-F882EB717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5B809-4580-4A90-81AC-E7A930060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8BEFD-2914-4AEF-A255-073F6D8C8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8C459-026A-4FAA-BABD-97015AD57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1F2C33-8607-4853-ACF0-B5307E328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9A4B2-4900-4041-8B11-189785550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BA3EB-254A-4B92-B5C9-B1BF479BF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D29F8-6871-45FE-8C45-8B0EB3015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FE962-BAD4-4645-8CEF-62AC01C0B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09116-DC0D-441A-BEBA-E30A0105C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D98D95-C8B6-4A82-B206-70F358112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770F31-D6D3-47D0-B200-38EE40839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AFF029-89E7-4C50-A8AE-953A4DF01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C1E987-1C78-48C6-AE36-FFBB46B63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7D6ED6-4068-4B7F-BC71-BBBD2E96F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CB0CBC-6E30-4568-B952-E8F0D0FEB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8707D4-7D47-4A2D-821F-6D81E68CE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D0C16-43F8-4C07-B84C-089D94C4CF5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CD013-5F38-470C-B4E2-213392B2B13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828440" y="1828800"/>
            <a:ext cx="7162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Petrolul mi</a:t>
            </a:r>
            <a:r>
              <a:rPr b="0" lang="ro-RO" sz="5000" spc="-1" strike="noStrike">
                <a:solidFill>
                  <a:srgbClr val="ffffff"/>
                </a:solidFill>
                <a:latin typeface="Arial"/>
              </a:rPr>
              <a:t>şcă omenirea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400" spc="-1" strike="noStrike">
                <a:solidFill>
                  <a:srgbClr val="000000"/>
                </a:solidFill>
                <a:latin typeface="Arial"/>
              </a:rPr>
              <a:t>-  motoare termic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04920" y="30492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Clasa a X a A s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5334120"/>
            <a:ext cx="8458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* Citiţi întrebările care vor urma, scrieţi răspunsurile voastre în coloanele corespunzătoare ale tabeluluicare urmează iar când terminaţi, faceţi o sinteză a acestora, apoi completaţi tabelul pe calculator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533160" y="2590560"/>
            <a:ext cx="79246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Care sunt combustibilii fosili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Pentru ce sunt folosiţi combustibilii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Puteţi da exemple de motoare termic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Cum funcţionează motorul termi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De ce depinde funcţionarea unui motor termi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Câte tipuri de motoare termice există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Care este cel mai mare defect al motoarelor termice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4038480" y="457200"/>
            <a:ext cx="1498680" cy="11239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85800" y="457200"/>
            <a:ext cx="2057400" cy="11476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6934320" y="380880"/>
            <a:ext cx="1498320" cy="11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Vă rog să desenaţi pe foaie tabelul de mai j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457200" y="1371600"/>
          <a:ext cx="8229600" cy="4114440"/>
        </p:xfrm>
        <a:graphic>
          <a:graphicData uri="http://schemas.openxmlformats.org/drawingml/2006/table">
            <a:tbl>
              <a:tblPr/>
              <a:tblGrid>
                <a:gridCol w="838080"/>
                <a:gridCol w="2514600"/>
                <a:gridCol w="2590920"/>
                <a:gridCol w="2286000"/>
              </a:tblGrid>
              <a:tr h="46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r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Şti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reau să şti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 învăţa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 sunt combustibilii fosil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 ce sunt folosi</a:t>
                      </a: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ţi combustibili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torul de la maşină şi motoret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m funcţionează motoru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 ce depinde funcţionarea motorulu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âte feluri exist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 defecte au motoare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 sunt </a:t>
                      </a: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bustibili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m se obţine lucru mecanic din gaze încălzite prin arderea combustibililor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6" name=""/>
          <p:cNvSpPr/>
          <p:nvPr/>
        </p:nvSpPr>
        <p:spPr>
          <a:xfrm>
            <a:off x="457200" y="5791320"/>
            <a:ext cx="81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La ultima coloană veţi răspunde la sfârşitul proiectului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Continu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457200" y="1371600"/>
          <a:ext cx="8229600" cy="4114440"/>
        </p:xfrm>
        <a:graphic>
          <a:graphicData uri="http://schemas.openxmlformats.org/drawingml/2006/table">
            <a:tbl>
              <a:tblPr/>
              <a:tblGrid>
                <a:gridCol w="838080"/>
                <a:gridCol w="2514600"/>
                <a:gridCol w="2590920"/>
                <a:gridCol w="2286000"/>
              </a:tblGrid>
              <a:tr h="46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r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Şti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reau să şti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 învăţa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9" name=""/>
          <p:cNvSpPr/>
          <p:nvPr/>
        </p:nvSpPr>
        <p:spPr>
          <a:xfrm>
            <a:off x="457200" y="5791320"/>
            <a:ext cx="81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La ultima coloană veţi răspunde la sfârşitul proiectului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3T11:36:28Z</dcterms:created>
  <dc:creator>elev</dc:creator>
  <dc:description/>
  <dc:language>en-US</dc:language>
  <cp:lastModifiedBy>user</cp:lastModifiedBy>
  <dcterms:modified xsi:type="dcterms:W3CDTF">2010-06-04T06:03:41Z</dcterms:modified>
  <cp:revision>7</cp:revision>
  <dc:subject/>
  <dc:title>Petrolul mişcă omenirea</dc:title>
</cp:coreProperties>
</file>